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98728-1474-4357-99E4-E01C13DE53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F15-C18C-45A3-AE35-071021B8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4F6-DF50-4638-8CFF-71EC82CE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6B5-6C74-4EBD-A857-6B9BA884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203-BBE3-4B1D-A405-A6FA477F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B098-2F5E-4B0A-A575-0143A872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0584-0E02-4889-A57F-8CFD578F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E66A-C4F3-4123-B215-A2098F97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A1EC-F852-4E69-8856-CE46BD9F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FDA9-FD18-493C-8F9F-674BAF1E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7A8C-7C33-49C9-82BE-6A9E38E3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A090-B08A-45B3-A858-6C178BA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F33-BABC-432E-8DD1-63C33187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485F-1ACB-464B-AC17-443DF3D3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ED65-6FD2-473C-B925-9A94810E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A18E-5DC7-4FD5-8C56-4C88356A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595D-A1AA-4D39-9EEB-93C7FF9D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F00B-1C6D-47CB-AC15-AB66BD6F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501-9992-40D8-81AD-2B64134A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567-B039-4097-A2B0-1A172CAD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F9A-A9F8-4F80-80A7-A2100B8F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D41-B856-4F15-9BF8-55E0725F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4E0-1158-4A92-8CC7-76094007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A69-1A95-4D0E-9B63-EAC8B2D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80E-E29C-4B79-829B-2F5E3B90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0BECA-5317-4BC2-B479-A5966A0EF26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7737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6A720-8C54-4586-9B12-67DD7628A21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403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666880"/>
            <a:ext cx="822492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6600"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of Re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36600"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F Con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36600"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ly 25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456760" cy="1838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03280" y="5445000"/>
            <a:ext cx="6608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F Architecture Group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4720" indent="-3247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 DirectFB gfxdriver For Your Embedded System - Takanari Hayama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FB Internals - Things You Need to Know to Write Your DirectFB gfxdriver - Takanari Hayama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ng Framebuffer support for Freescale SoCs - York Sun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streamer and OpenMAX IL: plug and play - Felipe Contreras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mory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ymmetric NUMA: Multiple-Memory Management For The Rest of Us – Paul Mundt (ELCE07, JJ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of Memory management method for embedded systems using CABI - Miyake (JJ1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wap usage in embedded system (Korean) - Seung-Ho Park (KTJ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ing Out-Of-Memory on Embedded Linux Young-Joon Jang (KTJ2, ELC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able Memory management system for Embedded Linux (Japanese) - Yamamoto (JJ2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Pho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 of Mobile Linux Open Platform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roid)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nji Kondo (JJ18, 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5840" y="3285360"/>
            <a:ext cx="82123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PE Phone Edition - An Open Source Software Stack for Linux Mobile Ph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17880" indent="-3178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ower Management Architecture For Mobile Devices - Matthew Locke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7880" indent="-3178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Suspend-to-Disk Objectives for Consumer Electronic Devices – Vitaly Wool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7880" indent="-3178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Clock Management Framework - Siarhei Yermalayeu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7880" indent="-3178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ynamic Voltage and Current Control Interface for the Linux Kernel – Liam Girdwood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Management Quality of Service and How You Could Use it in Your Embedded Application – Mark Gross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ing Blocks for Embedded Power Management – Kevin Hillman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System Power Management on OMAP3430 - Richard Woodruff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or/Plat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BE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. Machida (ELCE07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procedure call standard – Hee Seo (KTJ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Real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ecent new Features in NPTL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roki Kumagai (JJ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vers priority inheritance mutex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BI, CPU Resource Allocator development status - Y. Yuasa (JJ1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tus Overview of Real-Time – Thomas Gleixner (ELCE0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T Patch for Cell EB - Patch Status and Performance Measurements - Tsutomu Owa (ELCE0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ing Real-Time Linux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laas van Gen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ELC0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l-Time Virtualization Solutions for Linux - A Comparison of Strategies - Nicholas McGuire (ELC08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ventures In Real-Time Performance Tuning - Frank Rowand (ELC08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ompletely Fair Scheduler - Thomas Gleixner (KTJ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igning a Realtime System with MV Linux- Seung-Ryong Kwon (KTJ3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ppix 5.1.1 for Trusted Computing Geeks - K.Suzaki (JJ17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usted Secure Isolation For Embedded Linux – Hadi Nahari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 of Embedded SELinu - Yuichi Nakamura (JJ18, 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 evaluation of Secure OS using LSM - Naoto Matsuda (JJ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Security Features and Issues in Embedded Systems - KaiGai Kohei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oiding Web Application Flaws in Embedded Devices – Jake Edge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Analyze Your Linux's Behavior with TOMOYO Linux - Kentaro Takeda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ressed Cache – (JJ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-tiny update – Satoru Ueda (for Tim Bird) (JJ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Tiny - The Diet Must Go On – Michael Opdenacker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ed Swap Solution for Embedded Linux - Alexander Belyakov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Size Report, and Bloatwatch Update – Matt Mackall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Tiny - Penguin Weight Watchers – Thomas Petazzoni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this presentation abou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 FYI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has lots of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material is presented at these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fortunately, most people don’t know about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onal events in Asia are in local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presentations are translat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an overview of material from different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imeDoctor -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ois Audeon (ELCE0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ing a JTAG for Linux Driver Debugging – Mike Anderson (ELC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 GCC Works, An Embedded Engineer's Perspective – Gene Sally (ELC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bedded Linux Development with Eclipse - JT Thomas (ELC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ratch Box on cross compile environment (Japanese) – Kobayashi (JJ2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ratch Box on cross compile environment - part 2 (Japanese) – Fuse (JJ2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FT on PPC – Tsutomu Owa (JJ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rofile porting on MIPS architecture - Takehiko Nagano (JJ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sodes of LKST for Embedded Linux Systems -  Hirohisa Iijima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-Call Backtracing based on MIPS architecture Linux System - Jong-Sung Kim (KTJ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utorials/ Development ti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ynamic Linking 3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tsuyuki Kobayashi (JJ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Kernel Hacking from clever people – Hugh Blemings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ice/Tips for Acting within Commun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Go Along with Community – Shibata (3-JJ17) (4-JJ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periences Posting Patches to the Community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kamura  (JJ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 Software, Licensing and Business Processes - Shane Martin Coughlan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s to Protect Proprietary Components in Device Drivers – Matt Porter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rom the world of Community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vid Woodhouse (JJ19, KTJ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lationship Between kernel.org Development and the Use of Linux for Embedded Applications  - Andrew Morton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ice/Tips for Acting within Community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priate Community Practices: Social and Technical Advice  - Deepak Saxena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crimination Method of GPL License Violation on Embedded Products - Kyung-Ae Kim (KTJ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oca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vantage of Linux for use of Embedded system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JJ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ideli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eck eLinux.org past event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llow links to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ok for interesting stu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information (presentation or translation) is missing, ask about it on celinux-dev@tree.celinuxforum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are really kind, try to see if it’s already linked to from an appropriate area on eLinux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not, link it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3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cc99"/>
                </a:solidFill>
                <a:latin typeface="Arial"/>
              </a:rPr>
              <a:t>                      </a:t>
            </a:r>
            <a:r>
              <a:rPr b="0" lang="en-GB" sz="2200" spc="-1" strike="noStrike">
                <a:solidFill>
                  <a:srgbClr val="00cc99"/>
                </a:solidFill>
                <a:latin typeface="Arial"/>
              </a:rPr>
              <a:t>(You have my permis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That’s 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F ev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bedded Linux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orldwide (ELC) – once a year in April, in the U.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uropean (ELCE) – once a year in the f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93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xt one is November 6,7 in Ede, The Netherla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apan Jamborees (JJ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ry other month, in Tok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orean Technical Jamboree (KTJ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riodically – probably have fourth one this f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ic are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up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52480"/>
            <a:ext cx="434340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or/Plat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ice/Tips for Acting within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oc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ootchart lite (lightning talk) – Shuuji Miyake (JJ1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rallelizing Linux boot on CE Devices - Vitaly Wool (ELCE0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ation and improvement of Bootchart - K. Yasui (JJ1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P TimeMeasure, A tool to masure application software startup tim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ichi Yuasa (JJ1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tant Startup for Application Using Reducing Relocation Time and Rearrange Function - Min-Chan Kim (ELC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st Booting of Embedded Linux - Ho-Jun Park (KTJ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ows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Ki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Linux and How It Compares to Other Open Source Engines - Holger Freyther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ing a Mozilla Based Browser - Sampo Nurmentaus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tribu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kyLinux Distribution: Mobile GNOME at Your Fingertips - Dodji Seketeli (ELCE0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emo Mobile Linux Platform, Current Status and Future Directions – Kate Alhola (ELC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l-Your-Own Linux the Easy Way with LTIB – Stuart Hughes (ELC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ing Custom Embedded Linux Distributions (using OpenEmbedded) – Matt Locke (ELC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E - Ubuntu Mobile and Embedded - David Mandala (ELC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FFS2/YAFFS explanation and comparison of mounting time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. Yano (JJ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ing JFFS2 RAM Usage and Performance - Alexey Korolev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 to LogFS - Jörn Engel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FFS - Wookey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omparison of Flash File system performac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JFFS2, YAFFS, LogFS -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tsuki Uwatoko (JJ1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FS: Architecture and Results – Jared Hulbert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system Support on Multi Level Cell (MLC) Flash in Open Source - Kyungmin Park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Lanning</dc:creator>
  <dc:description/>
  <dc:language>en-US</dc:language>
  <cp:lastModifiedBy>Tim Bird</cp:lastModifiedBy>
  <dcterms:modified xsi:type="dcterms:W3CDTF">2008-07-25T00:30:41Z</dcterms:modified>
  <cp:revision>9</cp:revision>
  <dc:subject/>
  <dc:title>Slide 1</dc:title>
</cp:coreProperties>
</file>